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BC0-5BD6-4E69-BB79-508C71D7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06A-E182-4532-9FAF-B31ADAB9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98F-3BC7-4058-8EF6-2BA72B83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71C-3692-443D-AAD0-43ABB353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C2C-D687-4DBB-B61D-E62759A1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7AE-891A-40E5-A572-50313DDA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03F-5F3A-43D7-8854-66D54A4D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A07-A81F-406D-9545-B06D2E7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874-E904-4401-8839-B297F4B1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0F2-DAAD-4AE6-BD3C-B1FBD5FB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7D9-EBF9-4077-B4B4-2DEE11E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C0E-4D02-4159-8659-7DAA6280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3A9F-9A97-49E0-9AFE-E450FA61D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Henry’s Lib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y by Ben Dickens, Dave Moman, and Zac End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night-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henry-david-thoreau"/>
          <p:cNvPicPr/>
          <p:nvPr/>
        </p:nvPicPr>
        <p:blipFill>
          <a:blip r:embed="rId1"/>
          <a:stretch/>
        </p:blipFill>
        <p:spPr>
          <a:xfrm>
            <a:off x="1905120" y="-76320"/>
            <a:ext cx="5627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catraz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isiting D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www.visitingdc.com/‌images/‌alcatraz-prison-picture-3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ingerbread House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Extraordinary Moms Networ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extraordinarymomsnetwork.files.wordpress.com/‌2009/‌11/‌gingerbread-house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nry David Thoreau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2 Encycloped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www.1902encyclopedia.com/‌T/‌THO/‌henry-david-thoreau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SA MULLING SATURN-LIKE RINGS FOR EARTH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crape T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8 Mar. 2010. &lt;http://scrapetv.com/‌News/‌News%20Pages/‌Science/‌images-2/‌night-sky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y Puft Marshallow Man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Llama Butch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llamabutchers.mu.nu/‌archives/‌hugo%20chavez%20staypuft%20marshmallow%20man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oreau on the Importance of Cultivating Vegetables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arpers Magaz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www.harpers.org/‌media/‌image/‌blogs/‌misc/‌henry_david_thoreau2.bmp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hugo%20chavez%20staypuft%20marshmallow%20man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enry-david-thoreau"/>
          <p:cNvPicPr/>
          <p:nvPr/>
        </p:nvPicPr>
        <p:blipFill>
          <a:blip r:embed="rId1"/>
          <a:stretch/>
        </p:blipFill>
        <p:spPr>
          <a:xfrm>
            <a:off x="1905120" y="0"/>
            <a:ext cx="55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ingerbread-house"/>
          <p:cNvPicPr/>
          <p:nvPr/>
        </p:nvPicPr>
        <p:blipFill>
          <a:blip r:embed="rId1"/>
          <a:stretch/>
        </p:blipFill>
        <p:spPr>
          <a:xfrm>
            <a:off x="1066680" y="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ugo%20chavez%20staypuft%20marshmallow%20man"/>
          <p:cNvPicPr/>
          <p:nvPr/>
        </p:nvPicPr>
        <p:blipFill>
          <a:blip r:embed="rId1"/>
          <a:stretch/>
        </p:blipFill>
        <p:spPr>
          <a:xfrm>
            <a:off x="4419720" y="0"/>
            <a:ext cx="52578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enry_david_thoreau2"/>
          <p:cNvPicPr/>
          <p:nvPr/>
        </p:nvPicPr>
        <p:blipFill>
          <a:blip r:embed="rId1"/>
          <a:stretch/>
        </p:blipFill>
        <p:spPr>
          <a:xfrm>
            <a:off x="-22860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ugo%20chavez%20staypuft%20marshmallow%20man"/>
          <p:cNvPicPr/>
          <p:nvPr/>
        </p:nvPicPr>
        <p:blipFill>
          <a:blip r:embed="rId1"/>
          <a:stretch/>
        </p:blipFill>
        <p:spPr>
          <a:xfrm>
            <a:off x="4572000" y="0"/>
            <a:ext cx="51436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enry_david_thoreau2"/>
          <p:cNvPicPr/>
          <p:nvPr/>
        </p:nvPicPr>
        <p:blipFill>
          <a:blip r:embed="rId1"/>
          <a:stretch/>
        </p:blipFill>
        <p:spPr>
          <a:xfrm>
            <a:off x="-304920" y="0"/>
            <a:ext cx="47451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lcatraz-prison-picture-3"/>
          <p:cNvPicPr/>
          <p:nvPr/>
        </p:nvPicPr>
        <p:blipFill>
          <a:blip r:embed="rId1"/>
          <a:stretch/>
        </p:blipFill>
        <p:spPr>
          <a:xfrm>
            <a:off x="-152280" y="304920"/>
            <a:ext cx="944856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9:51:42Z</dcterms:created>
  <dc:creator>Ben</dc:creator>
  <dc:description/>
  <dc:language>en-US</dc:language>
  <cp:lastModifiedBy>0000288hss</cp:lastModifiedBy>
  <dcterms:modified xsi:type="dcterms:W3CDTF">2010-03-18T11:27:46Z</dcterms:modified>
  <cp:revision>5</cp:revision>
  <dc:subject/>
  <dc:title>Henry’s Liberation</dc:title>
</cp:coreProperties>
</file>